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428-3782-4E1E-8B58-888AF8E4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4AF-F57B-4DAF-B04C-3ED4DD89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9FD-8C3F-4070-8C28-6DCB21FC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664-6A54-4379-A164-0DF8BC43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97E-8DFB-440C-A067-76160043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F2A-E126-414B-A83C-0D2D6462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1AC-63EA-4A41-86C7-A1DA69E0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525-E530-4AD4-9088-34AE6ACE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B92-93D6-4B7E-BA66-DE24A6C0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516-2DA5-49C3-8515-ED46D81F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82D-8FA0-4F3A-BAB7-D4E922D4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EF8-7B98-4292-88F2-C21A7B0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76B7-D2F5-44C0-974E-82DF4F095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3619440" cy="26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3467160" cy="2287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6270" t="-4294" r="9369" b="26362"/>
          <a:stretch/>
        </p:blipFill>
        <p:spPr>
          <a:xfrm>
            <a:off x="900000" y="765000"/>
            <a:ext cx="388800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124000" y="1989000"/>
            <a:ext cx="2997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8:05:44Z</dcterms:created>
  <dc:creator>usuario</dc:creator>
  <dc:description/>
  <dc:language>en-US</dc:language>
  <cp:lastModifiedBy>usuario</cp:lastModifiedBy>
  <dcterms:modified xsi:type="dcterms:W3CDTF">2009-12-03T18:06:10Z</dcterms:modified>
  <cp:revision>1</cp:revision>
  <dc:subject/>
  <dc:title>Diapositiva 1</dc:title>
</cp:coreProperties>
</file>